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281-994D-4341-99A7-CE495AAB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22A-C703-4506-B3BE-F34D908D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FB6-9F23-4644-ADE6-5A7F662A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AEF-1CD0-4B0B-BBA2-9E58B844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4868-1960-45D8-83E2-A3943F8F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ED0D-6BCF-46CC-85C1-61A7593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5EA6-EF46-426D-BC4B-E664128A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A3DE-3C87-4A83-AFFF-CE2B5643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0388-23A9-4317-BDB7-44A1F73D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5C07-5EA4-43F0-BB86-83014569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3E0C-1FE8-4754-B724-9A598D1D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CBF-81E4-4DA8-BCE7-99B0191D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C2A3-6A9D-4EF0-8348-5C51BF0E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0B07-CC2C-465D-9B63-A5E37BE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4C02-8D9A-4D17-B4EC-D6A4B44C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63D5-927E-483C-AF17-33D8451A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B4D-9A6F-4296-B1FF-3C681AB2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BF3-BA3F-400D-9D44-3C58555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1C5-904D-44E3-BFE7-EB3A5397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8DA-7F6F-4DFA-9D8A-85F337C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890-22AA-4582-B3C5-58D43898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312-7A5C-4BCC-B4E5-5405C499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777-35B9-4568-811C-06CC94B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681-76A5-4D83-807E-7B43D00B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2B87-CB41-4777-AAC7-35655D3887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DDCB-69C8-4D31-A252-31CC095C89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Welcome to Our Classroom!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s. Rouse &amp; Mrs. Bissette-Russ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ecta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give their very be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tr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thing that we do and believe that they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have positive attitu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respect each other, their teachers, and themsel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tudents to grow and show progre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pecial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ysical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uter L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Guidan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53118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Any Questions Yet??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sences/Tardi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Recognition for attend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sence Excuse No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ctor’s Appoint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ce of Being Here on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-up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-up Te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all!    776-0506   ex.120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ransporta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 Ri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in Transpor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ving E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ne smoothly thus far…Thank You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S!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Contra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 Home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lling Home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Homework (coming so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tra Sheet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 Pro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ekly Progress Reports and Test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5667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ease sign and return the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2602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R and A-Mat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ready begun test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AR books throughout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vidual Go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en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ed A-Math tod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ny questions?? We’re almost finished…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ast minute things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 Web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Grade Pl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lth-A-Rama – October 3r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ift St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e Cream D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nack!!!!!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nte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Our Daily Schedu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:00-8:20 – Arrive, Unpack, Morning Work, and Announc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:20-8:25 – Restroom Break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:25-8:45 – Communication Skills Lesson: Spelling, Grammar, et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:45-9:30 – Specia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:30-10:00 – Writing Less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omic Sans MS"/>
              </a:rPr>
              <a:t>Thank you for coming!</a:t>
            </a:r>
            <a:endParaRPr b="0" lang="en-US" sz="1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0:00-10:15 – AR Read Aloud &amp; Snack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0:15-11:20 – Reading Group &amp; Centers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1:20-11:55 – Lunch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1:55-12:25 – Recess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2:25-1:30 – Math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1:30-2:00 – Social Studies/Science Block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2:00-2:30 – AR Time &amp; Agendas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2:32 – Dismiss From School 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assroom Rul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hands, feet and other objects to yourse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good choi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others and propert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yourse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 and follow dir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good man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-------------------------------------------------------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follow rules because…we want to learn, stay in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, stay safe, help others, and stay out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u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REWARDS!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or the Individua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al Pra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ckets in the Bas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work Passes/Ice Cre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ckers on Papers and AR Fol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44476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ewards for the Clas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al Pra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tle Fuzzies” in the J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 Tok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 Snacks from Mrs. Rouse &amp; Mrs. Bissette-Russel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ur Class is a TEA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sequences </a:t>
            </a:r>
            <a:r>
              <a:rPr b="0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Verbal Warn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Name goes on the 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on the green l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walk 5 laps outside before they can pl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on the yellow l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a note writt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student explaining their actions to their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on the red l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A phone call to parents and an office refer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686160" y="-53388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Any Questions?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29120" y="2971800"/>
            <a:ext cx="2965320" cy="356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, Procedures, Procedures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bout pencil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I get their atten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do when you are finished with your wor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line up to leave the roo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everyone have a job to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tle” pleas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we talk in the lunchroo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9:48:43Z</dcterms:created>
  <dc:creator>Technology Services</dc:creator>
  <dc:description/>
  <dc:language>en-US</dc:language>
  <cp:lastModifiedBy>rrouse</cp:lastModifiedBy>
  <dcterms:modified xsi:type="dcterms:W3CDTF">2007-09-10T20:23:40Z</dcterms:modified>
  <cp:revision>30</cp:revision>
  <dc:subject/>
  <dc:title>Welcome to Our Classroom!</dc:title>
</cp:coreProperties>
</file>